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0E3-FAD2-404F-93FB-18EF46AC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BBE-5920-4181-B1AF-C3AB4C6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8E4-DD3E-4F4F-B5A0-AD45FA62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20C-4D99-41C4-A09F-9C1D874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D0B-27AA-4334-912E-AA7D733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FBE-6305-42AA-82CF-95EDB83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668-9840-48E4-815D-EA9B320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A23-CBF9-43DC-AAF1-DE36E89F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0EF-CA3F-4CDD-8824-C5066F3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B58-C4B7-4F44-A19C-615F471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043-0119-4205-9BC6-33BA1FE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2C1-146A-48C4-B212-8E863F04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BB7-7FF6-4844-954B-B8AA04CE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jlkezel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EREGY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.Ezeregy.Ejszaka.Mesei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95 (Röv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zeregy éjszaka meséi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95 (Hossz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ZER~1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EREGY.DOC;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ájlok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jln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olsó módosítás id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útu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Hozzáférési jogok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kai elhelyezke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zvetett hivatk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ncolás,link,alias –ról akkor beszélünk, ha egy fájlhoz, nem csak egy elnevezés segítségével juthatun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ódszert a UNIX valósítja meg következetesen, de a szemlélet nem idegen a WINDOWS tó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nye a helytakarékos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módszer két változata ism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rev láncolás (hard lin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t vagy több független, egyenértékű fájlról beszélünk, melyek kizárólag a fájl fizikai elhelyezkedésére vonatkozó információkban kell megegyezz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ználat jelentős többlet feladat az operációs rendszer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ilván kell tartania, hogy 1-1 fájlra hány hivatkozás mu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gy láncolás (soft lin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cím helyett a hivatkozott fájl nevét tartalmazza, lehetővé téve azt, hogy a fájl akárhol is előfordulhas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vábbi előnye, hogy az adatállományok tömörítése, vagy alapvető, fizikai címeket érintő átstrukturálása esetén is működőképes ma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ndirekt hivatkozás bevezetése adminisztratív problémákat is fel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é a fáj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törölheti az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k kell fizetnie a hely foglalásá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atalógusok (director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an speciális állomány , melynek tartalma a fájlok nevét és jellemzőit tartalmazó rekordok lis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egy folyamat egy fájlra hivatkozik, az operációs rendszer először a katalógust vizsgálja meg, hogy létezik-e egyáltalán ilyen fá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ógus nélkü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os hozzáférésű média (mágnesszalag) esetén nehéz elképzelni könnyen kezelhető, a fájlok alapvető adatait tartalmazó katalógus állomán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ájlok közt szüneteket tartalma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datok teljes hiányát az olvasófej gyors tekercselés közben is felism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intű kataló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szintű rendszerekkel szemben az a legnagyobb kifogás hozható hogy 1-1 fájl megkereséséhez legrosszabb esetben az egész katalógust végig kell olvas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ásik gond, hogy minden fájlnak teljesen egyedi neve kell hogy leg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étszintű kataló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második szint bevezetése sokkal áttekinthetőbb rendszert eredmén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felhasználó kaphat egy saját katalógust, míg a közösen használt fájlok egy külön katalógusba kerül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es katalógusokat, a katalógusok katalógusa, a FŐ (master) vagy másnéven gyökér (root) katalógus fogja ös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öbbszintű (hierarchikus) fájl rends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indulópontja a gyökérkönyvtár, mely tartalmazhat fájlokat és alkatalógusokat, ezek szintén tartalmazhatnak fájlokat és alkatalógusokat és így tová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rendezés hasonlít egy fára, innen az elnevezé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gneslemezek alkalmazása lehetővé tette a programok és az adatok tárol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llományok számának növekedésével szükségessé vált az elnevezésük és rendszerez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ájlok olyan adatcsoportok, melyek leglényegesebb tulajdonsága, hogy egy név segítségével együttesen kezelhet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az nem kell foglakoznia a felhasználónak, hogy fizikailag hol helyezkednek el az állományok, hanem ezt az operációs rendszer elvégzi helyette (DOS – Disk Operating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ultságok típu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vas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étreh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lemzők mód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áférés mód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ájl fogalma alatt általában tárolt adatokat értünk, de van olyan operációs rendszer (UNIX) , ahol minden külső adatfolyamot (billentyűzet,képernyő) is így kezel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 az általánosítás a programozó számára nagyon előnyös, mert nem kell törődni azzal, hogy milyen perifériáról kap adatokat, és az eredményeket nyomtatóra, képernyőre vagy fájlba kell kií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mezeken tárolt adatok 3 csoportba osztható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iglenes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operációs rendszer saját működésének támogatására hoz létre (pl. cserefáj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használói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lasszikus értelemben vett fájl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ztratív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hoz szükségesek, hogy a felhasználók által létrehozott állományokat kezeljék, szerkezetük, tartalmuk a felhasználók elől rejtet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ájlok tartalmuktól és céljuktól függően nagyon sokfélék lehet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ktuális operációs rendszer szabályai döntik el, hogy ez csak névben vagy felépítésben is megjelenik-e vagy csak értelmezés kérdése az egé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X –ban nincs megkülönböz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OS –ban a futtatható bináris állományok(.exe,.com) vagy a parancsnyelvi állományok (.b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szermag azon részét, mely a fájlokkal kapcsolatos műveleteket végzi fájlkezelőnek nevezzük. A nevekből a logikai blokkszámokat kialakítva a folyamatok kéréseit az eszközvezérlőnek továbbít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068640"/>
            <a:ext cx="72741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folyam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573360"/>
            <a:ext cx="7274160" cy="172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5661000"/>
            <a:ext cx="489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gneslemez egy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437000"/>
            <a:ext cx="475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zközkez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3716280"/>
            <a:ext cx="194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ffer(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3716280"/>
            <a:ext cx="194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ájlkez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16360" y="5013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5013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203640" y="4149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3640" y="3573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357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149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ájlnev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ájlneveket alkotó karakterek lehetséges halmaza, a név hossza és szerkezete az adott operációs rendszer függv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vek több részből állhatnak, melyeket egy speciális karakter választ el egymás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bályok nagyon változatosak, esetleg egyszerre lehet kétféle szabály is érvény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ájlnév két részből áll, az első rész a név, ami 1..8 karakterből állhat, az elválasztó karakter a ‘.’, ez után következik a kiterjesztés ami maximum 3 karakterből állhat. A karakterek az ASCII kódtábla nagy és kisbetűi, számai, és speciális karakterek (pl. ~!@#$&amp;%^_-{}) közül kerülhetnek ki. A DOS nem tesz különbséget a kis és nagybetűk kö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ájlnevek hossza maximum 255 karakter lehet és tetszőleges számú ponttal elválasztott összetevőből áll. A UNIX megkülönbözteti a kis és nagybetűket, a speciális karakterek használatával vigyázni k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indows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ális kettős elnevezésrendszert használ, részben a dokumentum-orientált szemlélet miatt, részben a DOS kompatibilitás miatt. Minden fájlnak két neve van egy rövid, és egy hossz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övid fájlnevek követik a hagyományos DOS 8+3 felépítést. A hosszú az 250 karakterből álló név plusz a max 3 karakteres kiterjesztéssel, a programok ebből képezik a rövid ne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hosszúnevek eleje megegyezik, akkor a W95 ezt úgy oldja meg, hogy veszi az első 6 karaktert, majd egy elválasztójelet (~), és egy sorszámot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7:30:26Z</dcterms:created>
  <dc:creator>Nagymáté Péter</dc:creator>
  <dc:description/>
  <dc:language>en-US</dc:language>
  <cp:lastModifiedBy>Nagymáté Péter</cp:lastModifiedBy>
  <dcterms:modified xsi:type="dcterms:W3CDTF">2004-05-13T12:10:25Z</dcterms:modified>
  <cp:revision>14</cp:revision>
  <dc:subject/>
  <dc:title>Operációs rendszerek</dc:title>
</cp:coreProperties>
</file>